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E975D-2E7B-4DAF-BDAC-EF4199B886B5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2636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13491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1619280" y="1714680"/>
            <a:ext cx="571500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0320" bIns="4032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59:52Z</dcterms:created>
  <dc:creator>PHPOffice</dc:creator>
  <dc:description>Sample 01 Description</dc:description>
  <cp:keywords>office 2007 openxml libreoffice odt php</cp:keywords>
  <dc:language>en-US</dc:language>
  <cp:lastModifiedBy>PHPPowerPoint Team</cp:lastModifiedBy>
  <dcterms:modified xsi:type="dcterms:W3CDTF">2014-07-22T09:59:52Z</dcterms:modified>
  <cp:revision>0</cp:revision>
  <dc:subject>Sample 01 Subject</dc:subject>
  <dc:title>Sample 01 Title</dc:title>
</cp:coreProperties>
</file>