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77ADD-B890-4572-ACEA-1FC691436C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31067-26CF-43B1-8E1C-5586AF37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55B61-ADAF-4305-9BA0-570EEAB3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2DDEB-9FB7-46F3-ABC1-450FEFE106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35074-5F4B-4AA1-9A24-EC1D79E7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C0266-8008-4215-AB1E-46002B0A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5611E-2C9F-4DF5-8B9E-1EEF6B21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21A1C-F613-49D5-9C13-23571FF8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B0B35-56F6-443E-86E9-F76C4466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C917-D45C-486E-9551-FC908D71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29F73-3EE6-477A-A8BB-98E5EEF4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16C80-5EF0-4C7A-96ED-998980C8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5C030E7D-B1ED-48CE-A370-D4B763B6408C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A6DF62F2-99EA-4F3A-9D5F-FECDC554ECE2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1619280" y="1714680"/>
            <a:ext cx="5715000" cy="36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76280" bIns="47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e06b20"/>
                </a:solidFill>
                <a:latin typeface="Calibri"/>
              </a:rPr>
              <a:t>Thank you for using PHPPowerPoin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1714680"/>
            <a:ext cx="5715000" cy="1440"/>
          </a:xfrm>
          <a:prstGeom prst="line">
            <a:avLst/>
          </a:prstGeom>
          <a:ln w="12600">
            <a:solidFill>
              <a:srgbClr val="e06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5524560"/>
            <a:ext cx="5715000" cy="1440"/>
          </a:xfrm>
          <a:prstGeom prst="line">
            <a:avLst/>
          </a:prstGeom>
          <a:ln w="12600">
            <a:solidFill>
              <a:srgbClr val="e06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